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71A-4761-4FF8-A90A-9F680AB7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DC2-5D3E-41E6-AFD4-82AA46BC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790-3BCE-4680-B741-B4433EA8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68B-1A69-4322-A603-134BEEC4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E65E-7647-48B3-B053-1EE06249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6CF1-1E64-4049-ABFD-491F6A5B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BA9D-0D62-4597-BAEA-2C24F7DD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B67-C684-4415-A473-0766978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350-47C8-4C5F-A6CD-B61EA645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3E3-29F9-44FD-8C1C-58E4F73B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03E6-B11F-40A3-934B-A529E9C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236-7090-4B60-88AC-275B78A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A18-0AAA-4EAA-8D4B-473F5A1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546B-D24B-4831-A603-C38E292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961B-0A62-47B9-895A-E177F9E3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E9BC-926D-42EE-BB9E-8BB181EB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4CB-77B7-4F8D-88D0-90A0F77C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86B6-9145-4F5F-8722-F22E9F75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DBD8-1DE0-4807-9B52-481F3C5F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58AF-B36F-4076-A6A4-76A4B0E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D361-7A6D-41F2-8D6C-DB002E55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3CD8-BE73-48E1-974C-202C23E6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416-C24D-4417-A0B5-97224C18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1C23-13C6-46F9-900E-1FDE504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0D4C-BE5C-4215-993A-47E0CBD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DA36-41CE-4766-8646-CEDC56B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7EAD-6B7C-4A1A-A510-3EC85DEA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68EF-B12A-4884-9F6E-ABE7E5D0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D846-7585-48B1-8534-98D75A1E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1CD6-B8E3-4237-A5CE-58DB4093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63D3-28F9-482F-B684-C743F54C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2879-31D5-4703-BBA3-FF8F8050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8CD61-4776-4C98-84C2-54ED351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8CB-190E-4571-A0FA-91906C1C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C0FA-FD5E-49A1-86D4-C44E6F2D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B6AE-20F8-40C6-9AE2-F02C6C13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2E647-ADD3-4EC0-BB21-F98AC8C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11BA7-8061-4245-94CF-2DB03BC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831B-2A3E-49BC-A42F-790DF17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E448-4666-47EF-9C4F-0D146C1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0DB2-BC7B-4F12-B1DA-0FAED6A7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A877-4C27-4546-A7A0-769C3246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8D3F-FA39-407E-91CA-402C39C0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9CA-C58A-48A2-BAED-C13BAC16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3D0-46E8-450B-9D8E-C8F56B9C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1B7-2FDC-4135-817F-D2037F6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952-8751-4555-9B77-BAED889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A64-8F39-4AC4-B2D6-B9DD3396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B713A-0C4D-447F-A66F-4737B7DCB90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6CB36-038F-4C41-8004-5249AB4CA07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6AE0E-44BF-41AD-BE0B-0492F79BD57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CF52D-CA3D-4BB7-A548-7AA1BFA7187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800280"/>
            <a:ext cx="9156600" cy="499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енник увидел трех рабочих, которые толкали тяжело нагруженные тачки, и спросил каждого, что он дела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Первый ответил: «Толкаю эту тяжелую тачку, будь она проклят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Второй сказал: «Зарабатываю на хлеб для своей семьи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А третий гордо произнес: «Я строю прекрасный храм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Трое рабочих делали одно и то же, но чувствовали себя по-разно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ервого работа была каторгой, и он был очень несчастен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чувствовал себя опорой и кормильцем семьи. В его ответе – спокойное достоинств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был горд и счастлив, ведь он служил прекрасной ц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54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6"/>
          <p:cNvSpPr/>
          <p:nvPr/>
        </p:nvSpPr>
        <p:spPr>
          <a:xfrm>
            <a:off x="573120" y="5153040"/>
            <a:ext cx="11045880" cy="7081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ратите внимани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7720" y="182520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ProximaNova"/>
              </a:rPr>
              <a:t>раск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ть — раск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буст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буст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вык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а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вык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ыв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т</a:t>
            </a:r>
            <a:r>
              <a:rPr b="0" lang="ru-RU" sz="1800" spc="-1" strike="noStrike">
                <a:solidFill>
                  <a:srgbClr val="6d2d9e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ление </a:t>
            </a:r>
            <a:r>
              <a:rPr b="0" lang="ru-RU" sz="1800" spc="-1" strike="noStrike">
                <a:solidFill>
                  <a:srgbClr val="ff7228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т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лив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п</a:t>
            </a:r>
            <a:r>
              <a:rPr b="0" lang="ru-RU" sz="1800" spc="-1" strike="noStrike">
                <a:solidFill>
                  <a:srgbClr val="6d2d9e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здавший </a:t>
            </a:r>
            <a:r>
              <a:rPr b="0" lang="ru-RU" sz="1800" spc="-1" strike="noStrike">
                <a:solidFill>
                  <a:srgbClr val="ff7228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п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зды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836960" y="1825560"/>
            <a:ext cx="48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см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ре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см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риват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рог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рог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ыват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раз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м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раз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мывать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73120" y="5153040"/>
            <a:ext cx="1104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entury Gothic"/>
                <a:ea typeface="Times New Roman"/>
              </a:rPr>
              <a:t>Нельзя проверять правописание безударных гласных О/А в глагольных корнях при помощи глаголов на </a:t>
            </a:r>
            <a:r>
              <a:rPr b="1" lang="ru-RU" sz="2000" spc="-1" strike="noStrike">
                <a:solidFill>
                  <a:srgbClr val="006dbf"/>
                </a:solidFill>
                <a:latin typeface="Century Gothic"/>
                <a:ea typeface="Times New Roman"/>
              </a:rPr>
              <a:t>-ивать, -ывать </a:t>
            </a:r>
            <a:r>
              <a:rPr b="1" lang="ru-RU" sz="2000" spc="-1" strike="noStrike">
                <a:solidFill>
                  <a:srgbClr val="333333"/>
                </a:solidFill>
                <a:latin typeface="Century Gothic"/>
                <a:ea typeface="Times New Roman"/>
              </a:rPr>
              <a:t>(глаголов несовершенного вида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982440"/>
            <a:ext cx="96012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Рассмотрим пример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38040" y="1561680"/>
            <a:ext cx="92516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№ 1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Укажите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рианты ответов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 которых во всех словах одного ряда пропущена безударная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дующаяся гласна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корня. Запишите номера отв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расст..лать, уг..реть, бл..ст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ф..стиваль, зан..мать, угр..ж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просл..влять, р..стовщик, см..роди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прик..сновение, изл..жение, подр..вня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) т..чилка, ф..рмацевт, выг..ре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9640" y="5287680"/>
            <a:ext cx="414000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вет: 3,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82680" y="703080"/>
            <a:ext cx="9601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№ 2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жите варианты ответов, в которых во всех словах одного ряда пропущена безударная чередующаяся гласная корня. Запишите номера отв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ж..мать, отв..рить (овощи), прим..рение (сторон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.сички, оз..рение, г..рев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..раться, зар..сли, прик..снутьс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л..жить, несг..раемый, пон..ма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..рила, зам..реть, ст..листически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82320" y="5439960"/>
            <a:ext cx="1879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вет: 1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97160" y="969840"/>
            <a:ext cx="9601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жите варианты ответов, в которых во всех словах одного ряда пропущена безударная непроверяемая гласная кор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.ндидат, к..лач, ст..ллаж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..ремония, подг..ревший, ог..рчатьс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..нить, деф..цит, пол..ж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пп..рат, пр..зидент, пр..ве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..няние, од..ваться, ув..ж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стоятельная работа)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1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13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 2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1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Карточка  1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слова, вставить пропущенные буквы, выделить корни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..нительный, з..ря , сл..гаемое, р..внина, согр..шить, оч..рование, к..нонада, заг..реть, ар..мат, заб..рать, к..сательная, опт..мис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им себ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720"/>
            <a:ext cx="8596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енительный, заря , слагаемое, равнина, согрешить, очарование, канонада, загореть, аромат, забирать, касательная, оптимис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Арка 3"/>
          <p:cNvSpPr/>
          <p:nvPr/>
        </p:nvSpPr>
        <p:spPr>
          <a:xfrm flipV="1" rot="10800000">
            <a:off x="1244160" y="2160720"/>
            <a:ext cx="800280" cy="226800"/>
          </a:xfrm>
          <a:custGeom>
            <a:avLst/>
            <a:gdLst/>
            <a:ahLst/>
            <a:rect l="l" t="t" r="r" b="b"/>
            <a:pathLst>
              <a:path w="800100" h="227012">
                <a:moveTo>
                  <a:pt x="0" y="113506"/>
                </a:moveTo>
                <a:cubicBezTo>
                  <a:pt x="0" y="50818"/>
                  <a:pt x="179108" y="0"/>
                  <a:pt x="400050" y="0"/>
                </a:cubicBezTo>
                <a:cubicBezTo>
                  <a:pt x="620992" y="0"/>
                  <a:pt x="800100" y="50818"/>
                  <a:pt x="800100" y="113506"/>
                </a:cubicBezTo>
                <a:lnTo>
                  <a:pt x="743347" y="113506"/>
                </a:lnTo>
                <a:cubicBezTo>
                  <a:pt x="743347" y="82162"/>
                  <a:pt x="589648" y="56753"/>
                  <a:pt x="400050" y="56753"/>
                </a:cubicBezTo>
                <a:cubicBezTo>
                  <a:pt x="210452" y="56753"/>
                  <a:pt x="56753" y="82162"/>
                  <a:pt x="56753" y="113506"/>
                </a:cubicBezTo>
                <a:lnTo>
                  <a:pt x="0" y="1135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Арка 4"/>
          <p:cNvSpPr/>
          <p:nvPr/>
        </p:nvSpPr>
        <p:spPr>
          <a:xfrm>
            <a:off x="3822840" y="2160720"/>
            <a:ext cx="635040" cy="226800"/>
          </a:xfrm>
          <a:custGeom>
            <a:avLst/>
            <a:gdLst/>
            <a:ahLst/>
            <a:rect l="l" t="t" r="r" b="b"/>
            <a:pathLst>
              <a:path w="635000" h="227012">
                <a:moveTo>
                  <a:pt x="0" y="113506"/>
                </a:moveTo>
                <a:cubicBezTo>
                  <a:pt x="0" y="50818"/>
                  <a:pt x="142150" y="0"/>
                  <a:pt x="317500" y="0"/>
                </a:cubicBezTo>
                <a:cubicBezTo>
                  <a:pt x="492850" y="0"/>
                  <a:pt x="635000" y="50818"/>
                  <a:pt x="635000" y="113506"/>
                </a:cubicBezTo>
                <a:lnTo>
                  <a:pt x="578247" y="113506"/>
                </a:lnTo>
                <a:cubicBezTo>
                  <a:pt x="578247" y="82162"/>
                  <a:pt x="461507" y="56753"/>
                  <a:pt x="317500" y="56753"/>
                </a:cubicBezTo>
                <a:cubicBezTo>
                  <a:pt x="173493" y="56753"/>
                  <a:pt x="56753" y="82162"/>
                  <a:pt x="56753" y="113506"/>
                </a:cubicBezTo>
                <a:lnTo>
                  <a:pt x="0" y="1135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Арка 5"/>
          <p:cNvSpPr/>
          <p:nvPr/>
        </p:nvSpPr>
        <p:spPr>
          <a:xfrm>
            <a:off x="5181480" y="2160720"/>
            <a:ext cx="482760" cy="272880"/>
          </a:xfrm>
          <a:custGeom>
            <a:avLst/>
            <a:gdLst/>
            <a:ahLst/>
            <a:rect l="l" t="t" r="r" b="b"/>
            <a:pathLst>
              <a:path w="482600" h="273050">
                <a:moveTo>
                  <a:pt x="0" y="136525"/>
                </a:moveTo>
                <a:cubicBezTo>
                  <a:pt x="0" y="61124"/>
                  <a:pt x="108034" y="0"/>
                  <a:pt x="241300" y="0"/>
                </a:cubicBezTo>
                <a:cubicBezTo>
                  <a:pt x="374566" y="0"/>
                  <a:pt x="482600" y="61124"/>
                  <a:pt x="482600" y="136525"/>
                </a:cubicBezTo>
                <a:lnTo>
                  <a:pt x="414338" y="136525"/>
                </a:lnTo>
                <a:cubicBezTo>
                  <a:pt x="414338" y="98824"/>
                  <a:pt x="336866" y="68262"/>
                  <a:pt x="241300" y="68262"/>
                </a:cubicBezTo>
                <a:cubicBezTo>
                  <a:pt x="145734" y="68262"/>
                  <a:pt x="68262" y="98824"/>
                  <a:pt x="68262" y="136525"/>
                </a:cubicBezTo>
                <a:lnTo>
                  <a:pt x="0" y="136525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Арка 6"/>
          <p:cNvSpPr/>
          <p:nvPr/>
        </p:nvSpPr>
        <p:spPr>
          <a:xfrm>
            <a:off x="6900840" y="2182680"/>
            <a:ext cx="693720" cy="204840"/>
          </a:xfrm>
          <a:custGeom>
            <a:avLst/>
            <a:gdLst/>
            <a:ahLst/>
            <a:rect l="l" t="t" r="r" b="b"/>
            <a:pathLst>
              <a:path w="693737" h="204787">
                <a:moveTo>
                  <a:pt x="0" y="102394"/>
                </a:moveTo>
                <a:cubicBezTo>
                  <a:pt x="0" y="45843"/>
                  <a:pt x="155299" y="0"/>
                  <a:pt x="346869" y="0"/>
                </a:cubicBezTo>
                <a:cubicBezTo>
                  <a:pt x="538439" y="0"/>
                  <a:pt x="693738" y="45843"/>
                  <a:pt x="693738" y="102394"/>
                </a:cubicBezTo>
                <a:lnTo>
                  <a:pt x="642540" y="102394"/>
                </a:lnTo>
                <a:cubicBezTo>
                  <a:pt x="642540" y="74119"/>
                  <a:pt x="510163" y="51197"/>
                  <a:pt x="346868" y="51197"/>
                </a:cubicBezTo>
                <a:cubicBezTo>
                  <a:pt x="183573" y="51197"/>
                  <a:pt x="51196" y="74119"/>
                  <a:pt x="51196" y="102394"/>
                </a:cubicBezTo>
                <a:lnTo>
                  <a:pt x="0" y="102394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Арка 7"/>
          <p:cNvSpPr/>
          <p:nvPr/>
        </p:nvSpPr>
        <p:spPr>
          <a:xfrm>
            <a:off x="1486080" y="2730600"/>
            <a:ext cx="749160" cy="122040"/>
          </a:xfrm>
          <a:custGeom>
            <a:avLst/>
            <a:gdLst/>
            <a:ahLst/>
            <a:rect l="l" t="t" r="r" b="b"/>
            <a:pathLst>
              <a:path w="749300" h="122238">
                <a:moveTo>
                  <a:pt x="0" y="61119"/>
                </a:moveTo>
                <a:cubicBezTo>
                  <a:pt x="0" y="27364"/>
                  <a:pt x="167737" y="0"/>
                  <a:pt x="374650" y="0"/>
                </a:cubicBezTo>
                <a:cubicBezTo>
                  <a:pt x="581563" y="0"/>
                  <a:pt x="749300" y="27364"/>
                  <a:pt x="749300" y="61119"/>
                </a:cubicBezTo>
                <a:lnTo>
                  <a:pt x="718741" y="61119"/>
                </a:lnTo>
                <a:cubicBezTo>
                  <a:pt x="718741" y="44241"/>
                  <a:pt x="564686" y="30559"/>
                  <a:pt x="374650" y="30559"/>
                </a:cubicBezTo>
                <a:cubicBezTo>
                  <a:pt x="184614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Арка 8"/>
          <p:cNvSpPr/>
          <p:nvPr/>
        </p:nvSpPr>
        <p:spPr>
          <a:xfrm>
            <a:off x="3403440" y="2730600"/>
            <a:ext cx="419400" cy="122040"/>
          </a:xfrm>
          <a:custGeom>
            <a:avLst/>
            <a:gdLst/>
            <a:ahLst/>
            <a:rect l="l" t="t" r="r" b="b"/>
            <a:pathLst>
              <a:path w="419100" h="122238">
                <a:moveTo>
                  <a:pt x="0" y="61119"/>
                </a:moveTo>
                <a:cubicBezTo>
                  <a:pt x="0" y="27364"/>
                  <a:pt x="93819" y="0"/>
                  <a:pt x="209550" y="0"/>
                </a:cubicBezTo>
                <a:cubicBezTo>
                  <a:pt x="325281" y="0"/>
                  <a:pt x="419100" y="27364"/>
                  <a:pt x="419100" y="61119"/>
                </a:cubicBezTo>
                <a:lnTo>
                  <a:pt x="388541" y="61119"/>
                </a:lnTo>
                <a:cubicBezTo>
                  <a:pt x="388541" y="44241"/>
                  <a:pt x="308404" y="30559"/>
                  <a:pt x="209550" y="30559"/>
                </a:cubicBezTo>
                <a:cubicBezTo>
                  <a:pt x="110696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Арка 9"/>
          <p:cNvSpPr/>
          <p:nvPr/>
        </p:nvSpPr>
        <p:spPr>
          <a:xfrm>
            <a:off x="5346720" y="2664000"/>
            <a:ext cx="1384200" cy="234720"/>
          </a:xfrm>
          <a:custGeom>
            <a:avLst/>
            <a:gdLst/>
            <a:ahLst/>
            <a:rect l="l" t="t" r="r" b="b"/>
            <a:pathLst>
              <a:path w="1384300" h="234950">
                <a:moveTo>
                  <a:pt x="0" y="117475"/>
                </a:moveTo>
                <a:cubicBezTo>
                  <a:pt x="0" y="52595"/>
                  <a:pt x="309886" y="0"/>
                  <a:pt x="692150" y="0"/>
                </a:cubicBezTo>
                <a:cubicBezTo>
                  <a:pt x="1074414" y="0"/>
                  <a:pt x="1384300" y="52595"/>
                  <a:pt x="1384300" y="117475"/>
                </a:cubicBezTo>
                <a:lnTo>
                  <a:pt x="1325563" y="117475"/>
                </a:lnTo>
                <a:cubicBezTo>
                  <a:pt x="1325563" y="85035"/>
                  <a:pt x="1041974" y="58737"/>
                  <a:pt x="692150" y="58737"/>
                </a:cubicBezTo>
                <a:cubicBezTo>
                  <a:pt x="342326" y="58737"/>
                  <a:pt x="58737" y="85035"/>
                  <a:pt x="58737" y="117475"/>
                </a:cubicBezTo>
                <a:lnTo>
                  <a:pt x="0" y="117475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Арка 10"/>
          <p:cNvSpPr/>
          <p:nvPr/>
        </p:nvSpPr>
        <p:spPr>
          <a:xfrm>
            <a:off x="7442280" y="2730600"/>
            <a:ext cx="533160" cy="122040"/>
          </a:xfrm>
          <a:custGeom>
            <a:avLst/>
            <a:gdLst/>
            <a:ahLst/>
            <a:rect l="l" t="t" r="r" b="b"/>
            <a:pathLst>
              <a:path w="533400" h="122238">
                <a:moveTo>
                  <a:pt x="0" y="61119"/>
                </a:moveTo>
                <a:cubicBezTo>
                  <a:pt x="0" y="27364"/>
                  <a:pt x="119406" y="0"/>
                  <a:pt x="266700" y="0"/>
                </a:cubicBezTo>
                <a:cubicBezTo>
                  <a:pt x="413994" y="0"/>
                  <a:pt x="533400" y="27364"/>
                  <a:pt x="533400" y="61119"/>
                </a:cubicBezTo>
                <a:lnTo>
                  <a:pt x="502841" y="61119"/>
                </a:lnTo>
                <a:cubicBezTo>
                  <a:pt x="502841" y="44241"/>
                  <a:pt x="397117" y="30559"/>
                  <a:pt x="266700" y="30559"/>
                </a:cubicBezTo>
                <a:cubicBezTo>
                  <a:pt x="136283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Арка 11"/>
          <p:cNvSpPr/>
          <p:nvPr/>
        </p:nvSpPr>
        <p:spPr>
          <a:xfrm>
            <a:off x="1092240" y="3263760"/>
            <a:ext cx="1143000" cy="88920"/>
          </a:xfrm>
          <a:custGeom>
            <a:avLst/>
            <a:gdLst/>
            <a:ahLst/>
            <a:rect l="l" t="t" r="r" b="b"/>
            <a:pathLst>
              <a:path w="1143000" h="88900">
                <a:moveTo>
                  <a:pt x="0" y="44450"/>
                </a:moveTo>
                <a:cubicBezTo>
                  <a:pt x="0" y="19901"/>
                  <a:pt x="255869" y="0"/>
                  <a:pt x="571500" y="0"/>
                </a:cubicBezTo>
                <a:cubicBezTo>
                  <a:pt x="887131" y="0"/>
                  <a:pt x="1143000" y="19901"/>
                  <a:pt x="1143000" y="44450"/>
                </a:cubicBezTo>
                <a:lnTo>
                  <a:pt x="1120775" y="44450"/>
                </a:lnTo>
                <a:cubicBezTo>
                  <a:pt x="1120775" y="32175"/>
                  <a:pt x="874856" y="22225"/>
                  <a:pt x="571500" y="22225"/>
                </a:cubicBezTo>
                <a:cubicBezTo>
                  <a:pt x="268144" y="22225"/>
                  <a:pt x="22225" y="32175"/>
                  <a:pt x="22225" y="44450"/>
                </a:cubicBezTo>
                <a:lnTo>
                  <a:pt x="0" y="4445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Арка 12"/>
          <p:cNvSpPr/>
          <p:nvPr/>
        </p:nvSpPr>
        <p:spPr>
          <a:xfrm>
            <a:off x="2819520" y="3195720"/>
            <a:ext cx="583920" cy="156960"/>
          </a:xfrm>
          <a:custGeom>
            <a:avLst/>
            <a:gdLst/>
            <a:ahLst/>
            <a:rect l="l" t="t" r="r" b="b"/>
            <a:pathLst>
              <a:path w="584200" h="157162">
                <a:moveTo>
                  <a:pt x="0" y="78581"/>
                </a:moveTo>
                <a:cubicBezTo>
                  <a:pt x="0" y="35182"/>
                  <a:pt x="130778" y="0"/>
                  <a:pt x="292100" y="0"/>
                </a:cubicBezTo>
                <a:cubicBezTo>
                  <a:pt x="453422" y="0"/>
                  <a:pt x="584200" y="35182"/>
                  <a:pt x="584200" y="78581"/>
                </a:cubicBezTo>
                <a:lnTo>
                  <a:pt x="544910" y="78581"/>
                </a:lnTo>
                <a:cubicBezTo>
                  <a:pt x="544910" y="56881"/>
                  <a:pt x="431723" y="39290"/>
                  <a:pt x="292100" y="39290"/>
                </a:cubicBezTo>
                <a:cubicBezTo>
                  <a:pt x="152477" y="39290"/>
                  <a:pt x="39290" y="56881"/>
                  <a:pt x="39290" y="78581"/>
                </a:cubicBezTo>
                <a:lnTo>
                  <a:pt x="0" y="78581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Арка 13"/>
          <p:cNvSpPr/>
          <p:nvPr/>
        </p:nvSpPr>
        <p:spPr>
          <a:xfrm>
            <a:off x="4165560" y="3225960"/>
            <a:ext cx="482760" cy="126720"/>
          </a:xfrm>
          <a:custGeom>
            <a:avLst/>
            <a:gdLst/>
            <a:ahLst/>
            <a:rect l="l" t="t" r="r" b="b"/>
            <a:pathLst>
              <a:path w="482600" h="127000">
                <a:moveTo>
                  <a:pt x="0" y="63500"/>
                </a:moveTo>
                <a:cubicBezTo>
                  <a:pt x="0" y="28430"/>
                  <a:pt x="108034" y="0"/>
                  <a:pt x="241300" y="0"/>
                </a:cubicBezTo>
                <a:cubicBezTo>
                  <a:pt x="374566" y="0"/>
                  <a:pt x="482600" y="28430"/>
                  <a:pt x="482600" y="63500"/>
                </a:cubicBezTo>
                <a:lnTo>
                  <a:pt x="450850" y="63500"/>
                </a:lnTo>
                <a:cubicBezTo>
                  <a:pt x="450850" y="45965"/>
                  <a:pt x="357031" y="31750"/>
                  <a:pt x="241300" y="31750"/>
                </a:cubicBezTo>
                <a:cubicBezTo>
                  <a:pt x="125569" y="31750"/>
                  <a:pt x="31750" y="45965"/>
                  <a:pt x="31750" y="63500"/>
                </a:cubicBezTo>
                <a:lnTo>
                  <a:pt x="0" y="6350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Арка 14"/>
          <p:cNvSpPr/>
          <p:nvPr/>
        </p:nvSpPr>
        <p:spPr>
          <a:xfrm>
            <a:off x="6477120" y="3263760"/>
            <a:ext cx="965160" cy="88920"/>
          </a:xfrm>
          <a:custGeom>
            <a:avLst/>
            <a:gdLst/>
            <a:ahLst/>
            <a:rect l="l" t="t" r="r" b="b"/>
            <a:pathLst>
              <a:path w="965200" h="88900">
                <a:moveTo>
                  <a:pt x="0" y="44450"/>
                </a:moveTo>
                <a:cubicBezTo>
                  <a:pt x="0" y="19901"/>
                  <a:pt x="216067" y="0"/>
                  <a:pt x="482600" y="0"/>
                </a:cubicBezTo>
                <a:cubicBezTo>
                  <a:pt x="749133" y="0"/>
                  <a:pt x="965200" y="19901"/>
                  <a:pt x="965200" y="44450"/>
                </a:cubicBezTo>
                <a:lnTo>
                  <a:pt x="942975" y="44450"/>
                </a:lnTo>
                <a:cubicBezTo>
                  <a:pt x="942975" y="32175"/>
                  <a:pt x="736858" y="22225"/>
                  <a:pt x="482600" y="22225"/>
                </a:cubicBezTo>
                <a:cubicBezTo>
                  <a:pt x="228342" y="22225"/>
                  <a:pt x="22225" y="32175"/>
                  <a:pt x="22225" y="44450"/>
                </a:cubicBezTo>
                <a:lnTo>
                  <a:pt x="0" y="4445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1562040"/>
            <a:ext cx="83646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ка к ЕГЭ. Трудные случаи орфографии (задание №9)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ммы корн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1117440"/>
            <a:ext cx="9601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создать условия для достижения образовательных результатов через изучение написания слов с безударными гласными в корне, проверяемыми ударением, и чередующимися гласными в корне, подготовка в ЕГЭ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0280" y="369360"/>
            <a:ext cx="9601200" cy="17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рфоэпическая разминка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Заморочки из бочки».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720"/>
            <a:ext cx="912636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ределите данные слова по трём бочкам: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 ударением на первом слог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 ударением на втором слог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 ударением на последнем слоге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пансер, завидно, занял, заперта, искра, каталог, намерение, начал, начавшись, отозвалась, торты, углубить, цепочка, шарфы, эксперт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931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Объект 3" descr="https://avatars.mds.yandex.net/i?id=8b10018d046ac1dc530ab419fc33a886333e4208-8709977-images-thumbs&amp;n=13"/>
          <p:cNvPicPr/>
          <p:nvPr/>
        </p:nvPicPr>
        <p:blipFill>
          <a:blip r:embed="rId1"/>
          <a:stretch/>
        </p:blipFill>
        <p:spPr>
          <a:xfrm>
            <a:off x="1155600" y="252720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https://avatars.mds.yandex.net/i?id=8b10018d046ac1dc530ab419fc33a886333e4208-8709977-images-thumbs&amp;n=13"/>
          <p:cNvPicPr/>
          <p:nvPr/>
        </p:nvPicPr>
        <p:blipFill>
          <a:blip r:embed="rId2"/>
          <a:stretch/>
        </p:blipFill>
        <p:spPr>
          <a:xfrm>
            <a:off x="4876920" y="25272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https://avatars.mds.yandex.net/i?id=8b10018d046ac1dc530ab419fc33a886333e4208-8709977-images-thumbs&amp;n=13"/>
          <p:cNvPicPr/>
          <p:nvPr/>
        </p:nvPicPr>
        <p:blipFill>
          <a:blip r:embed="rId3"/>
          <a:stretch/>
        </p:blipFill>
        <p:spPr>
          <a:xfrm>
            <a:off x="8458200" y="252720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6"/>
          <p:cNvSpPr/>
          <p:nvPr/>
        </p:nvSpPr>
        <p:spPr>
          <a:xfrm>
            <a:off x="1841400" y="3276720"/>
            <a:ext cx="10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т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5499000" y="3492360"/>
            <a:ext cx="152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д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вшис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9067680" y="3174840"/>
            <a:ext cx="14353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панс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ер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озвалАс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лубИт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9647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Алгоритм  выполнения задания № 9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95280" y="1663200"/>
            <a:ext cx="98805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нимательно прочитайте задание, поймите, слова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какому правилу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должны быть в ряду: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ряемые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сные в корне,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проверяемые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сные или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ередующие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спользуйте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тод исключения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если в ряду нашли слово по другому правилу, переходите к следующему ряду. Так вы значительно сократите врем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ответе должно быть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сколько цифр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поэтому внимательно рассматривайте слова каждого ряда, не пропустите верный отв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нужно найти ряды с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ередующимися гласными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то вспомните эти корни, не перепутайте их с проверяемыми гласными (например,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ться и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ться — это чередующиеся гласные в корне, а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ть — это проверяемая —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т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нужно найти ряды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проверяемыми или непроверяемыми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гласными в корне, то сначала найдите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СЕ гласные в корне.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хотя бы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одна из них подходит по правилу,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 данное слово будет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правильным для отве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728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рфограм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286000"/>
            <a:ext cx="91011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ударная непроверяемая гласная в корне сл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ударная гласная в корне, проверяемая ударение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дующаяся гласная в корне сл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0-09T17:35:13Z</dcterms:created>
  <dc:creator>Пользователь</dc:creator>
  <dc:description/>
  <dc:language>en-US</dc:language>
  <cp:lastModifiedBy>User</cp:lastModifiedBy>
  <dcterms:modified xsi:type="dcterms:W3CDTF">2025-10-16T03:49:12Z</dcterms:modified>
  <cp:revision>20</cp:revision>
  <dc:subject/>
  <dc:title>Тема: Подготовка к ЕГЭ. Трудные случаи орфографии (задание №9)</dc:title>
</cp:coreProperties>
</file>